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70691-3579-42EB-BC04-5E0243E1E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F713-5B49-4158-86B8-A3D1D389D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9E737-6074-40FD-AAC7-3DF712688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04AD7-ABD7-4266-84EE-8259CE556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2420C-367A-43B9-8C98-DA87F61EF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ED227-4C44-4FAB-9206-3F8388401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0FDA2-9900-426B-A0D3-095AEB159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4ACE4-F071-4A47-B206-C0D05351C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260DE-4F5B-443B-AC2E-29F1FF67A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85FFB-1DE8-4148-9303-CEB63150F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361B3-9909-46D4-8A8B-F6B698E01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CDC1-4E0E-4A27-810D-509B08B0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2FBA7-8CAE-4F75-8C52-53A7DE7FF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5CB96-4C79-4262-81A6-BD56A8BD6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D0C3C-BB07-487A-B094-98EA3A925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B53C2-E96D-4C71-BD02-59B2FB3E5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38860-FD3B-44FE-9E0A-3381E034B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8BF3-C3DF-4A27-A35A-C9114721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93819-E8FE-40AB-A9ED-AE250BC0D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BDC5B-DCF1-4695-AFC6-D42739D86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C3C9-2DAE-446C-B5AA-C04E50A47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B515-811A-440B-A281-34D3F166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5E61-B22E-4351-A568-210BEAB29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B68EA-C5F1-4EB8-A9F2-E15B51E3B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D690-6982-4E61-B1AB-25BE07518A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F241-B521-4D84-8EFD-A4DEF76319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Oxygen Family</a:t>
            </a:r>
            <a:endParaRPr b="0" lang="en-US" sz="9600" spc="-1" strike="noStrike">
              <a:solidFill>
                <a:srgbClr val="ccecff"/>
              </a:solidFill>
              <a:latin typeface="Arial"/>
            </a:endParaRPr>
          </a:p>
        </p:txBody>
      </p:sp>
      <p:sp>
        <p:nvSpPr>
          <p:cNvPr id="212" name="PlaceHolder 2"/>
          <p:cNvSpPr>
            <a:spLocks noGrp="1"/>
          </p:cNvSpPr>
          <p:nvPr>
            <p:ph type="subTitle"/>
          </p:nvPr>
        </p:nvSpPr>
        <p:spPr>
          <a:xfrm>
            <a:off x="1332000" y="34290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Oxygen is a gas at room temperature and is colorless, odorless and tasteless. Liquid oxygen has a slight blue color. Virtually every element known forms a compound with oxygen except for some of the noble gases. Has been discovered in 1772 by Scheele and independently by Priestley  in 1774</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Monotype Corsiva"/>
              </a:rPr>
              <a:t>Sulfur</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Other than sulfuric acid , perhaps the most familiar compound of sulfur in the chemistry lab is the foul smelling  hydrogen sulfide gas. </a:t>
            </a:r>
            <a:r>
              <a:rPr b="0" lang="en-US" sz="3200" spc="-1" strike="noStrike">
                <a:solidFill>
                  <a:srgbClr val="ffffff"/>
                </a:solidFill>
                <a:latin typeface="Arial"/>
              </a:rPr>
              <a:t>  </a:t>
            </a:r>
            <a:r>
              <a:rPr b="0" lang="en-US" sz="2400" spc="-1" strike="noStrike">
                <a:solidFill>
                  <a:srgbClr val="ffffff"/>
                </a:solidFill>
                <a:latin typeface="Monotype Corsiva"/>
              </a:rPr>
              <a:t>In 1867, sulfur was discovered in underground deposits in Louisiana and Texas. </a:t>
            </a:r>
            <a:endParaRPr b="0" lang="en-US" sz="2400" spc="-1" strike="noStrike">
              <a:solidFill>
                <a:srgbClr val="ffffff"/>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ecff"/>
                </a:solidFill>
                <a:latin typeface="Monotype Corsiva"/>
              </a:rPr>
              <a:t>Selenium</a:t>
            </a:r>
            <a:r>
              <a:rPr b="0" lang="en-US" sz="2000" spc="-1" strike="noStrike">
                <a:solidFill>
                  <a:srgbClr val="ccecff"/>
                </a:solidFill>
                <a:latin typeface="Monotype Corsiva"/>
              </a:rPr>
              <a:t> </a:t>
            </a:r>
            <a:endParaRPr b="0" lang="en-US" sz="2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s an important semi conductor which is particularly sensitive to light. Thus it finds application that range from light sensors to xerography. In large amounts the element is toxic, but it is a trace element in living organisms. Selenium was discovered in 1817 by Jons Jacob Berzelius after analyzing an impurity that was contaminating the Sulfuric Acid being produced at a particular factory in Sweden.   </a:t>
            </a:r>
            <a:endParaRPr b="0" lang="en-US" sz="24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Tellurium</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Tellurium can be alloyed with some metals to increase their mach inability and is a basic ingredient in the manufacture of blasting caps. Elemental tellurium is occasionally found in nature but is more often recovered from various gold ores. Tellurium was discovered in 1782 by the Hungarian Franz-Joseph Muller von Reichenstein in Nagyszeben</a:t>
            </a:r>
            <a:endParaRPr b="0" lang="en-US" sz="2400" spc="-1" strike="noStrike">
              <a:solidFill>
                <a:srgbClr val="ffffff"/>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Polonium</a:t>
            </a:r>
            <a:endParaRPr b="0" lang="en-US" sz="96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Polonium was discovered in 1898 by Marie Curie and named for her native country of Poland. The chemistry of Polonium is similar to that of Tellurium and Bismuth.  Polonium dissolves readily in dilute acids, but is only slightly Soluble in alkalis. </a:t>
            </a:r>
            <a:endParaRPr b="0" lang="en-US" sz="2400" spc="-1" strike="noStrike">
              <a:solidFill>
                <a:srgbClr val="ffffff"/>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Done by: Javier Guajardo</a:t>
            </a:r>
            <a:endParaRPr b="0" lang="en-US" sz="9600" spc="-1" strike="noStrike">
              <a:solidFill>
                <a:srgbClr val="ccec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7:04:05Z</dcterms:created>
  <dc:creator>tatumadmin</dc:creator>
  <dc:description/>
  <dc:language>en-US</dc:language>
  <cp:lastModifiedBy>tatumadmin</cp:lastModifiedBy>
  <dcterms:modified xsi:type="dcterms:W3CDTF">2009-12-04T17:32:08Z</dcterms:modified>
  <cp:revision>2</cp:revision>
  <dc:subject/>
  <dc:title>Oxygen Family</dc:title>
</cp:coreProperties>
</file>